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4.wmf" ContentType="image/x-wmf"/>
  <Override PartName="/ppt/media/image5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2.wmf" ContentType="image/x-wmf"/>
  <Override PartName="/ppt/media/image13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9374E-4093-4278-88FB-3402074533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530D9E-F8E0-40EF-BC5D-ADDC0958F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F1668-1027-443D-8D22-ED7077A403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99886-0715-4F23-830F-38C5B4D5255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5990A3-CD36-4610-B08F-2E81A66FEB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56BEA-23E4-49C6-9DD8-D3C720CE1C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10EBB-CF5B-4976-9AAC-C81F5276CC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B2006F-F59C-41C4-A172-5E8D934519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CB22BF-5985-4860-ADB9-6ABFCE88453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66BF0-46C5-4A44-B820-F187FA254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FA0429-EA7D-4F0B-8FB6-A1E046D0DF05}" type="slidenum">
              <a:rPr b="0" lang="en-US" sz="11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642C5-D904-4CC6-9348-A5F43461C27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166B50-ADBC-4251-B272-0BB54BEE296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2D059-D488-46FA-8204-0175038D53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6" descr="PWP_template_cover.png"/>
          <p:cNvPicPr/>
          <p:nvPr/>
        </p:nvPicPr>
        <p:blipFill>
          <a:blip r:embed="rId2"/>
          <a:stretch/>
        </p:blipFill>
        <p:spPr>
          <a:xfrm>
            <a:off x="0" y="0"/>
            <a:ext cx="9144000" cy="41972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PWP_template_bottom.png"/>
          <p:cNvPicPr/>
          <p:nvPr/>
        </p:nvPicPr>
        <p:blipFill>
          <a:blip r:embed="rId2"/>
          <a:stretch/>
        </p:blipFill>
        <p:spPr>
          <a:xfrm>
            <a:off x="0" y="5481720"/>
            <a:ext cx="9144000" cy="1376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PWP_template_bottom.png"/>
          <p:cNvPicPr/>
          <p:nvPr/>
        </p:nvPicPr>
        <p:blipFill>
          <a:blip r:embed="rId2"/>
          <a:stretch/>
        </p:blipFill>
        <p:spPr>
          <a:xfrm>
            <a:off x="0" y="5481720"/>
            <a:ext cx="9144000" cy="1376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PWP_template_bottom.png"/>
          <p:cNvPicPr/>
          <p:nvPr/>
        </p:nvPicPr>
        <p:blipFill>
          <a:blip r:embed="rId2"/>
          <a:stretch/>
        </p:blipFill>
        <p:spPr>
          <a:xfrm>
            <a:off x="0" y="5481720"/>
            <a:ext cx="9144000" cy="1376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tle 1"/>
          <p:cNvSpPr/>
          <p:nvPr/>
        </p:nvSpPr>
        <p:spPr>
          <a:xfrm>
            <a:off x="380880" y="3962520"/>
            <a:ext cx="83059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>
                <a:solidFill>
                  <a:srgbClr val="05183a"/>
                </a:solidFill>
                <a:latin typeface="Century Gothic"/>
              </a:rPr>
              <a:t>Introduction to ARIN and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600" spc="-1" strike="noStrike">
                <a:solidFill>
                  <a:srgbClr val="05183a"/>
                </a:solidFill>
                <a:latin typeface="Century Gothic"/>
              </a:rPr>
              <a:t>the Internet Registry Syste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685800" y="5667480"/>
            <a:ext cx="7696080" cy="1440"/>
          </a:xfrm>
          <a:prstGeom prst="line">
            <a:avLst/>
          </a:prstGeom>
          <a:ln w="3168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pplying the principles of stewardship, ARIN, a nonprofit corpo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llocates Internet Protocol resource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develops consensus-based policies;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facilitates the advancement of the Internet through information and educational outreac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</a:rPr>
              <a:t>ARIN’s Mi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ARIN’s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Like the other RIRs, AR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Allocates and assigns Internet numb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Participates in the global Interne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Facilitates policy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Is a nonprofit, membership orga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Is governed by an elected executive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staff_flowcharts_ppt.wmf"/>
          <p:cNvPicPr/>
          <p:nvPr/>
        </p:nvPicPr>
        <p:blipFill>
          <a:blip r:embed="rId1"/>
          <a:stretch/>
        </p:blipFill>
        <p:spPr>
          <a:xfrm>
            <a:off x="609480" y="685800"/>
            <a:ext cx="8077320" cy="533880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Organizational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str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Directory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gistration transaction information (WHO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ecor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Routing information (Internet Routing Registr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str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25320" y="1523520"/>
            <a:ext cx="516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ordination &amp; management of Internet numb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ternet number resource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6" descr="MCj02500780000[1]"/>
          <p:cNvPicPr/>
          <p:nvPr/>
        </p:nvPicPr>
        <p:blipFill>
          <a:blip r:embed="rId1"/>
          <a:stretch/>
        </p:blipFill>
        <p:spPr>
          <a:xfrm>
            <a:off x="5486400" y="1523880"/>
            <a:ext cx="303228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Technical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457200" y="1417680"/>
            <a:ext cx="845820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RIN WHOIS/RWHO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RIN O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ternet Routing Reg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Reverse DNS Serv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ll public services also available over IP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T support fo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merging Technologies: </a:t>
            </a: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DNNSEC, RPKI, Whois-R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ommunity Software Project Repository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6303960" y="914400"/>
            <a:ext cx="261144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Organiz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blic Policy &amp; Member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124080" y="4419720"/>
            <a:ext cx="51055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5880" indent="-51588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515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xecutive Board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5880" indent="-515880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buClr>
                <a:srgbClr val="ffcc00"/>
              </a:buClr>
              <a:buSzPct val="75000"/>
              <a:buFont typeface="Wingdings 2" charset="2"/>
              <a:buChar char=""/>
              <a:tabLst>
                <a:tab algn="l" pos="0"/>
                <a:tab algn="l" pos="515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8" descr="MCBD07123_0000[1]"/>
          <p:cNvPicPr/>
          <p:nvPr/>
        </p:nvPicPr>
        <p:blipFill>
          <a:blip r:embed="rId1"/>
          <a:stretch/>
        </p:blipFill>
        <p:spPr>
          <a:xfrm>
            <a:off x="1066680" y="4191120"/>
            <a:ext cx="1808280" cy="15778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9" descr="MCj03342360000[1]"/>
          <p:cNvPicPr/>
          <p:nvPr/>
        </p:nvPicPr>
        <p:blipFill>
          <a:blip r:embed="rId2"/>
          <a:stretch/>
        </p:blipFill>
        <p:spPr>
          <a:xfrm>
            <a:off x="6019920" y="1828800"/>
            <a:ext cx="2209680" cy="17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Organization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formation publi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nd disse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8" descr="MCBD06630_0000[1]"/>
          <p:cNvPicPr/>
          <p:nvPr/>
        </p:nvPicPr>
        <p:blipFill>
          <a:blip r:embed="rId1"/>
          <a:stretch/>
        </p:blipFill>
        <p:spPr>
          <a:xfrm>
            <a:off x="685800" y="3886200"/>
            <a:ext cx="2590920" cy="20667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0"/>
          <p:cNvSpPr/>
          <p:nvPr/>
        </p:nvSpPr>
        <p:spPr>
          <a:xfrm>
            <a:off x="3429000" y="4343400"/>
            <a:ext cx="3962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5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255680"/>
                <a:tab algn="l" pos="1652760"/>
                <a:tab algn="l" pos="2060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duc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&amp;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2" descr="MCPE01638_0000[1]"/>
          <p:cNvPicPr/>
          <p:nvPr/>
        </p:nvPicPr>
        <p:blipFill>
          <a:blip r:embed="rId2"/>
          <a:stretch/>
        </p:blipFill>
        <p:spPr>
          <a:xfrm>
            <a:off x="5715000" y="1523880"/>
            <a:ext cx="28494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Policy Developmen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6840" y="171432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nage the Policy Development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Maintain e-mail discussion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blish policy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9"/>
          <p:cNvSpPr/>
          <p:nvPr/>
        </p:nvSpPr>
        <p:spPr>
          <a:xfrm>
            <a:off x="2666880" y="3657600"/>
            <a:ext cx="3048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5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255680"/>
                <a:tab algn="l" pos="1652760"/>
                <a:tab algn="l" pos="20606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Policy Developm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8"/>
          <p:cNvSpPr/>
          <p:nvPr/>
        </p:nvSpPr>
        <p:spPr>
          <a:xfrm>
            <a:off x="609480" y="1676520"/>
            <a:ext cx="1905120" cy="990360"/>
          </a:xfrm>
          <a:prstGeom prst="ellipse">
            <a:avLst/>
          </a:prstGeom>
          <a:solidFill>
            <a:srgbClr val="0099d0"/>
          </a:solidFill>
          <a:ln w="3816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BOTTOM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6"/>
          <p:cNvSpPr/>
          <p:nvPr/>
        </p:nvSpPr>
        <p:spPr>
          <a:xfrm>
            <a:off x="609480" y="3200400"/>
            <a:ext cx="1905120" cy="1066680"/>
          </a:xfrm>
          <a:prstGeom prst="ellipse">
            <a:avLst/>
          </a:prstGeom>
          <a:solidFill>
            <a:srgbClr val="0099d0"/>
          </a:solidFill>
          <a:ln w="3816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entury Gothic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7"/>
          <p:cNvSpPr/>
          <p:nvPr/>
        </p:nvSpPr>
        <p:spPr>
          <a:xfrm>
            <a:off x="533520" y="4800600"/>
            <a:ext cx="1981080" cy="1219320"/>
          </a:xfrm>
          <a:prstGeom prst="ellipse">
            <a:avLst/>
          </a:prstGeom>
          <a:solidFill>
            <a:srgbClr val="0099d0"/>
          </a:solidFill>
          <a:ln w="38160">
            <a:solidFill>
              <a:srgbClr val="0518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Century Gothic"/>
              </a:rPr>
              <a:t>TRANSPAR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2971800" y="3276720"/>
            <a:ext cx="52182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Open Particip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40000"/>
              </a:lnSpc>
              <a:spcBef>
                <a:spcPts val="1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Inclus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40000"/>
              </a:lnSpc>
              <a:spcBef>
                <a:spcPts val="1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  <a:ea typeface="Arial"/>
              </a:rPr>
              <a:t>Acce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2971800" y="1771560"/>
            <a:ext cx="54864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munity Proposes, Discusses, and Approves Poli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2895480" y="5064120"/>
            <a:ext cx="63248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Documented, Published &amp; Accessible </a:t>
            </a:r>
            <a:r>
              <a:rPr b="0" lang="en-GB" sz="2600" spc="-1" strike="noStrike">
                <a:solidFill>
                  <a:srgbClr val="000000"/>
                </a:solidFill>
                <a:latin typeface="Century Gothic"/>
              </a:rPr>
              <a:t>PDP, Policies, and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onal Internet Regi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 Regional Internet Registry (RIR) system began in 199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re are five RI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All RIRs are nonprofit, community-driven organiz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RIRs coordinate closely with IANA, and are part of the Internet Registry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spcAft>
                <a:spcPts val="24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4"/>
          <p:cNvSpPr/>
          <p:nvPr/>
        </p:nvSpPr>
        <p:spPr>
          <a:xfrm>
            <a:off x="457200" y="4572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</a:rPr>
              <a:t>This afternoon’s program in the Ball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1227240"/>
            <a:ext cx="8534520" cy="4116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1:30 PM - Hosting Providers &amp; A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3:45 PM  - ARIN Online: New Functionalit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4:45 PM - Introduction to ARIN Polic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Developmen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Aft>
                <a:spcPts val="29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Arial"/>
              </a:rPr>
              <a:t>5:00 PM - Open Policy H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1828800" y="478800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d0"/>
                </a:solidFill>
                <a:latin typeface="Arial"/>
              </a:rPr>
              <a:t>Caledon &amp; Oakville 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99d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99d0"/>
                </a:solidFill>
                <a:latin typeface="Arial"/>
              </a:rPr>
              <a:t>up one level on main flo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99112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50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Please complete the survey form and drop it in the bowl.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Tomorrow morning at the start of the meeting there will be a drawing for a $100 Think Geek gift certificate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3352680" y="1523880"/>
            <a:ext cx="20908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72880"/>
            <a:ext cx="86868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Internet Registr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28600" y="1420920"/>
          <a:ext cx="8686800" cy="4370400"/>
        </p:xfrm>
        <a:graphic>
          <a:graphicData uri="http://schemas.openxmlformats.org/drawingml/2006/table">
            <a:tbl>
              <a:tblPr/>
              <a:tblGrid>
                <a:gridCol w="1371600"/>
                <a:gridCol w="7315200"/>
              </a:tblGrid>
              <a:tr h="163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ICANN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(IAN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Top level coordination of the Internet identifiers (domain names, number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nage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global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unallocated IP address po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llocate number resources to R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R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nage regional unallocated IP address p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llocate number resources to ISPs/LI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ssign number resources to End-us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ISP/L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2520" indent="-18252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nage local IP address pool for use by customers and for infrastruc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llocate number resources to IS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8cb5"/>
                        </a:buClr>
                        <a:buSzPct val="65000"/>
                        <a:buFont typeface="Lucida Grande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cb5"/>
                          </a:solidFill>
                          <a:latin typeface="Century Gothic"/>
                          <a:ea typeface="ＭＳ Ｐゴシック"/>
                        </a:rPr>
                        <a:t>Assign number resources to End-us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Line 116"/>
          <p:cNvSpPr/>
          <p:nvPr/>
        </p:nvSpPr>
        <p:spPr>
          <a:xfrm flipH="1">
            <a:off x="1047600" y="5067360"/>
            <a:ext cx="928800" cy="29520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8"/>
          <p:cNvSpPr/>
          <p:nvPr/>
        </p:nvSpPr>
        <p:spPr>
          <a:xfrm>
            <a:off x="1976400" y="5067360"/>
            <a:ext cx="998640" cy="29520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96"/>
          <p:cNvSpPr/>
          <p:nvPr/>
        </p:nvSpPr>
        <p:spPr>
          <a:xfrm flipH="1">
            <a:off x="2257560" y="3749760"/>
            <a:ext cx="2162160" cy="43956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6"/>
          <p:cNvSpPr/>
          <p:nvPr/>
        </p:nvSpPr>
        <p:spPr>
          <a:xfrm>
            <a:off x="4419720" y="3749760"/>
            <a:ext cx="2076480" cy="439560"/>
          </a:xfrm>
          <a:prstGeom prst="line">
            <a:avLst/>
          </a:prstGeom>
          <a:ln cap="rnd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8390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5183a"/>
                </a:solidFill>
                <a:latin typeface="Century Gothic"/>
              </a:rPr>
              <a:t>Number Resource Provisioning Hierarch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309760" y="1295280"/>
            <a:ext cx="4224240" cy="892440"/>
          </a:xfrm>
          <a:prstGeom prst="rect">
            <a:avLst/>
          </a:prstGeom>
          <a:solidFill>
            <a:srgbClr val="008cb5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3124080" y="1353960"/>
            <a:ext cx="259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CANN / 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8"/>
          <p:cNvSpPr/>
          <p:nvPr/>
        </p:nvSpPr>
        <p:spPr>
          <a:xfrm>
            <a:off x="2717280" y="1658880"/>
            <a:ext cx="3499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(Internet Assigned Numbers Author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362320" y="1887480"/>
            <a:ext cx="411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anage global unallocated IP address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977760" y="4660920"/>
            <a:ext cx="1997280" cy="40644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>
            <a:off x="969840" y="4711680"/>
            <a:ext cx="2005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2200320" y="5916600"/>
            <a:ext cx="1523880" cy="34128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2"/>
          <p:cNvSpPr/>
          <p:nvPr/>
        </p:nvSpPr>
        <p:spPr>
          <a:xfrm>
            <a:off x="2257560" y="5945040"/>
            <a:ext cx="1466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0"/>
          <p:cNvSpPr/>
          <p:nvPr/>
        </p:nvSpPr>
        <p:spPr>
          <a:xfrm>
            <a:off x="533520" y="5925960"/>
            <a:ext cx="1022400" cy="34164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1"/>
          <p:cNvSpPr/>
          <p:nvPr/>
        </p:nvSpPr>
        <p:spPr>
          <a:xfrm>
            <a:off x="533520" y="5954760"/>
            <a:ext cx="101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8" descr=""/>
          <p:cNvPicPr/>
          <p:nvPr/>
        </p:nvPicPr>
        <p:blipFill>
          <a:blip r:embed="rId1"/>
          <a:stretch/>
        </p:blipFill>
        <p:spPr>
          <a:xfrm>
            <a:off x="2340000" y="2895480"/>
            <a:ext cx="4194000" cy="8384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9"/>
          <p:cNvSpPr/>
          <p:nvPr/>
        </p:nvSpPr>
        <p:spPr>
          <a:xfrm>
            <a:off x="2347920" y="2922480"/>
            <a:ext cx="4178160" cy="82728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70"/>
          <p:cNvSpPr/>
          <p:nvPr/>
        </p:nvSpPr>
        <p:spPr>
          <a:xfrm>
            <a:off x="4202280" y="2968560"/>
            <a:ext cx="56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2"/>
          <p:cNvSpPr/>
          <p:nvPr/>
        </p:nvSpPr>
        <p:spPr>
          <a:xfrm>
            <a:off x="2569320" y="3289320"/>
            <a:ext cx="366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entury Gothic"/>
              </a:rPr>
              <a:t>(AfriNIC, APNIC, ARIN, LACNIC, RIPE N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2"/>
          <p:cNvSpPr/>
          <p:nvPr/>
        </p:nvSpPr>
        <p:spPr>
          <a:xfrm>
            <a:off x="2431080" y="3517920"/>
            <a:ext cx="401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anage regional unallocated IP address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48"/>
          <p:cNvSpPr/>
          <p:nvPr/>
        </p:nvSpPr>
        <p:spPr>
          <a:xfrm>
            <a:off x="457200" y="5316480"/>
            <a:ext cx="1177920" cy="30024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2016" h="756">
                <a:moveTo>
                  <a:pt x="378" y="756"/>
                </a:moveTo>
                <a:lnTo>
                  <a:pt x="1638" y="756"/>
                </a:lnTo>
                <a:cubicBezTo>
                  <a:pt x="1846" y="756"/>
                  <a:pt x="2016" y="586"/>
                  <a:pt x="2016" y="378"/>
                </a:cubicBezTo>
                <a:cubicBezTo>
                  <a:pt x="2016" y="169"/>
                  <a:pt x="1846" y="0"/>
                  <a:pt x="1638" y="0"/>
                </a:cubicBezTo>
                <a:cubicBezTo>
                  <a:pt x="1638" y="0"/>
                  <a:pt x="1638" y="0"/>
                  <a:pt x="1638" y="0"/>
                </a:cubicBezTo>
                <a:lnTo>
                  <a:pt x="378" y="0"/>
                </a:lnTo>
                <a:cubicBezTo>
                  <a:pt x="169" y="0"/>
                  <a:pt x="0" y="169"/>
                  <a:pt x="0" y="378"/>
                </a:cubicBezTo>
                <a:cubicBezTo>
                  <a:pt x="0" y="586"/>
                  <a:pt x="169" y="756"/>
                  <a:pt x="378" y="756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49"/>
          <p:cNvSpPr/>
          <p:nvPr/>
        </p:nvSpPr>
        <p:spPr>
          <a:xfrm>
            <a:off x="537480" y="5362560"/>
            <a:ext cx="100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Re-Allo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50"/>
          <p:cNvSpPr/>
          <p:nvPr/>
        </p:nvSpPr>
        <p:spPr>
          <a:xfrm>
            <a:off x="2381400" y="5326200"/>
            <a:ext cx="1177920" cy="299880"/>
          </a:xfrm>
          <a:custGeom>
            <a:avLst/>
            <a:gdLst>
              <a:gd name="textAreaLeft" fmla="*/ 0 w 1177920"/>
              <a:gd name="textAreaRight" fmla="*/ 1178280 w 117792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2016" h="756">
                <a:moveTo>
                  <a:pt x="378" y="756"/>
                </a:moveTo>
                <a:lnTo>
                  <a:pt x="1638" y="756"/>
                </a:lnTo>
                <a:cubicBezTo>
                  <a:pt x="1846" y="756"/>
                  <a:pt x="2016" y="586"/>
                  <a:pt x="2016" y="378"/>
                </a:cubicBezTo>
                <a:cubicBezTo>
                  <a:pt x="2016" y="169"/>
                  <a:pt x="1846" y="0"/>
                  <a:pt x="1638" y="0"/>
                </a:cubicBezTo>
                <a:cubicBezTo>
                  <a:pt x="1638" y="0"/>
                  <a:pt x="1638" y="0"/>
                  <a:pt x="1638" y="0"/>
                </a:cubicBezTo>
                <a:lnTo>
                  <a:pt x="378" y="0"/>
                </a:lnTo>
                <a:cubicBezTo>
                  <a:pt x="169" y="0"/>
                  <a:pt x="0" y="169"/>
                  <a:pt x="0" y="378"/>
                </a:cubicBezTo>
                <a:cubicBezTo>
                  <a:pt x="0" y="586"/>
                  <a:pt x="169" y="756"/>
                  <a:pt x="378" y="756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51"/>
          <p:cNvSpPr/>
          <p:nvPr/>
        </p:nvSpPr>
        <p:spPr>
          <a:xfrm>
            <a:off x="2541960" y="5362560"/>
            <a:ext cx="866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Re-As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54"/>
          <p:cNvSpPr/>
          <p:nvPr/>
        </p:nvSpPr>
        <p:spPr>
          <a:xfrm>
            <a:off x="5943600" y="4678200"/>
            <a:ext cx="2057400" cy="409680"/>
          </a:xfrm>
          <a:prstGeom prst="rect">
            <a:avLst/>
          </a:prstGeom>
          <a:solidFill>
            <a:srgbClr val="008cb5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55"/>
          <p:cNvSpPr/>
          <p:nvPr/>
        </p:nvSpPr>
        <p:spPr>
          <a:xfrm>
            <a:off x="6019920" y="4745160"/>
            <a:ext cx="190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End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84"/>
          <p:cNvSpPr/>
          <p:nvPr/>
        </p:nvSpPr>
        <p:spPr>
          <a:xfrm flipV="1">
            <a:off x="4419720" y="2187360"/>
            <a:ext cx="0" cy="7347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92"/>
          <p:cNvSpPr/>
          <p:nvPr/>
        </p:nvSpPr>
        <p:spPr>
          <a:xfrm>
            <a:off x="3908520" y="2293920"/>
            <a:ext cx="1022400" cy="38088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12" h="792">
                <a:moveTo>
                  <a:pt x="396" y="792"/>
                </a:moveTo>
                <a:lnTo>
                  <a:pt x="1716" y="792"/>
                </a:lnTo>
                <a:cubicBezTo>
                  <a:pt x="1934" y="792"/>
                  <a:pt x="2112" y="614"/>
                  <a:pt x="2112" y="396"/>
                </a:cubicBezTo>
                <a:cubicBezTo>
                  <a:pt x="2112" y="177"/>
                  <a:pt x="1934" y="0"/>
                  <a:pt x="1716" y="0"/>
                </a:cubicBezTo>
                <a:cubicBezTo>
                  <a:pt x="1716" y="0"/>
                  <a:pt x="1716" y="0"/>
                  <a:pt x="1716" y="0"/>
                </a:cubicBezTo>
                <a:lnTo>
                  <a:pt x="396" y="0"/>
                </a:lnTo>
                <a:cubicBezTo>
                  <a:pt x="177" y="0"/>
                  <a:pt x="0" y="177"/>
                  <a:pt x="0" y="396"/>
                </a:cubicBezTo>
                <a:cubicBezTo>
                  <a:pt x="0" y="614"/>
                  <a:pt x="177" y="792"/>
                  <a:pt x="396" y="792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93"/>
          <p:cNvSpPr/>
          <p:nvPr/>
        </p:nvSpPr>
        <p:spPr>
          <a:xfrm>
            <a:off x="4002120" y="2340000"/>
            <a:ext cx="92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92"/>
          <p:cNvSpPr/>
          <p:nvPr/>
        </p:nvSpPr>
        <p:spPr>
          <a:xfrm>
            <a:off x="6400800" y="4044960"/>
            <a:ext cx="1022400" cy="38088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12" h="792">
                <a:moveTo>
                  <a:pt x="396" y="792"/>
                </a:moveTo>
                <a:lnTo>
                  <a:pt x="1716" y="792"/>
                </a:lnTo>
                <a:cubicBezTo>
                  <a:pt x="1934" y="792"/>
                  <a:pt x="2112" y="614"/>
                  <a:pt x="2112" y="396"/>
                </a:cubicBezTo>
                <a:cubicBezTo>
                  <a:pt x="2112" y="177"/>
                  <a:pt x="1934" y="0"/>
                  <a:pt x="1716" y="0"/>
                </a:cubicBezTo>
                <a:cubicBezTo>
                  <a:pt x="1716" y="0"/>
                  <a:pt x="1716" y="0"/>
                  <a:pt x="1716" y="0"/>
                </a:cubicBezTo>
                <a:lnTo>
                  <a:pt x="396" y="0"/>
                </a:lnTo>
                <a:cubicBezTo>
                  <a:pt x="177" y="0"/>
                  <a:pt x="0" y="177"/>
                  <a:pt x="0" y="396"/>
                </a:cubicBezTo>
                <a:cubicBezTo>
                  <a:pt x="0" y="614"/>
                  <a:pt x="177" y="792"/>
                  <a:pt x="396" y="792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3"/>
          <p:cNvSpPr/>
          <p:nvPr/>
        </p:nvSpPr>
        <p:spPr>
          <a:xfrm>
            <a:off x="6494400" y="4091040"/>
            <a:ext cx="83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s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4"/>
          <p:cNvSpPr/>
          <p:nvPr/>
        </p:nvSpPr>
        <p:spPr>
          <a:xfrm flipV="1">
            <a:off x="6934320" y="4425840"/>
            <a:ext cx="0" cy="2793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4"/>
          <p:cNvSpPr/>
          <p:nvPr/>
        </p:nvSpPr>
        <p:spPr>
          <a:xfrm flipV="1">
            <a:off x="1908000" y="4379400"/>
            <a:ext cx="0" cy="27972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4"/>
          <p:cNvSpPr/>
          <p:nvPr/>
        </p:nvSpPr>
        <p:spPr>
          <a:xfrm flipV="1">
            <a:off x="2975040" y="5637240"/>
            <a:ext cx="0" cy="2793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4"/>
          <p:cNvSpPr/>
          <p:nvPr/>
        </p:nvSpPr>
        <p:spPr>
          <a:xfrm flipV="1">
            <a:off x="1047600" y="5637240"/>
            <a:ext cx="0" cy="279360"/>
          </a:xfrm>
          <a:prstGeom prst="line">
            <a:avLst/>
          </a:prstGeom>
          <a:ln cap="rnd" w="316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92"/>
          <p:cNvSpPr/>
          <p:nvPr/>
        </p:nvSpPr>
        <p:spPr>
          <a:xfrm>
            <a:off x="1415880" y="4044960"/>
            <a:ext cx="1022400" cy="380880"/>
          </a:xfrm>
          <a:custGeom>
            <a:avLst/>
            <a:gdLst>
              <a:gd name="textAreaLeft" fmla="*/ 0 w 1022400"/>
              <a:gd name="textAreaRight" fmla="*/ 1022760 w 1022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12" h="792">
                <a:moveTo>
                  <a:pt x="396" y="792"/>
                </a:moveTo>
                <a:lnTo>
                  <a:pt x="1716" y="792"/>
                </a:lnTo>
                <a:cubicBezTo>
                  <a:pt x="1934" y="792"/>
                  <a:pt x="2112" y="614"/>
                  <a:pt x="2112" y="396"/>
                </a:cubicBezTo>
                <a:cubicBezTo>
                  <a:pt x="2112" y="177"/>
                  <a:pt x="1934" y="0"/>
                  <a:pt x="1716" y="0"/>
                </a:cubicBezTo>
                <a:cubicBezTo>
                  <a:pt x="1716" y="0"/>
                  <a:pt x="1716" y="0"/>
                  <a:pt x="1716" y="0"/>
                </a:cubicBezTo>
                <a:lnTo>
                  <a:pt x="396" y="0"/>
                </a:lnTo>
                <a:cubicBezTo>
                  <a:pt x="177" y="0"/>
                  <a:pt x="0" y="177"/>
                  <a:pt x="0" y="396"/>
                </a:cubicBezTo>
                <a:cubicBezTo>
                  <a:pt x="0" y="614"/>
                  <a:pt x="177" y="792"/>
                  <a:pt x="396" y="792"/>
                </a:cubicBezTo>
                <a:close/>
              </a:path>
            </a:pathLst>
          </a:custGeom>
          <a:solidFill>
            <a:srgbClr val="d4e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3"/>
          <p:cNvSpPr/>
          <p:nvPr/>
        </p:nvSpPr>
        <p:spPr>
          <a:xfrm>
            <a:off x="1509840" y="4091040"/>
            <a:ext cx="83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Alloc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egional Internet Regis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RIR_Regions_map.wmf"/>
          <p:cNvPicPr/>
          <p:nvPr/>
        </p:nvPicPr>
        <p:blipFill>
          <a:blip r:embed="rId1"/>
          <a:stretch/>
        </p:blipFill>
        <p:spPr>
          <a:xfrm>
            <a:off x="380880" y="1465200"/>
            <a:ext cx="845820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457200" y="1600200"/>
          <a:ext cx="8458200" cy="3962520"/>
        </p:xfrm>
        <a:graphic>
          <a:graphicData uri="http://schemas.openxmlformats.org/drawingml/2006/table">
            <a:tbl>
              <a:tblPr/>
              <a:tblGrid>
                <a:gridCol w="2819520"/>
                <a:gridCol w="2666880"/>
                <a:gridCol w="2971800"/>
              </a:tblGrid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Nonprof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mbership 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ommunity-regul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2600" indent="-2826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ee for services, not number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2600" indent="-28260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 community fun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oad-bas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Private 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Public sect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Civil socie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mmunity developed polic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mber-elected executive bo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pen and transpar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Title 3"/>
          <p:cNvSpPr/>
          <p:nvPr/>
        </p:nvSpPr>
        <p:spPr>
          <a:xfrm>
            <a:off x="38088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</a:rPr>
              <a:t>RIR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380880" y="1219320"/>
          <a:ext cx="8458200" cy="4460760"/>
        </p:xfrm>
        <a:graphic>
          <a:graphicData uri="http://schemas.openxmlformats.org/drawingml/2006/table">
            <a:tbl>
              <a:tblPr/>
              <a:tblGrid>
                <a:gridCol w="2919600"/>
                <a:gridCol w="2490840"/>
                <a:gridCol w="304776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Number Resour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Organiz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  <a:ea typeface="ＭＳ Ｐゴシック"/>
                        </a:rPr>
                        <a:t>Policy Develo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8cb5"/>
                    </a:solidFill>
                  </a:tcPr>
                </a:tc>
              </a:tr>
              <a:tr h="363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IP address allocation &amp; assig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ASN assign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Directory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WHO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IR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Reverse D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Ele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eet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Information disse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Webs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Newslet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Roundt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Trai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Maintain e-mail discussion li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Conduct public policy meetin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7160" indent="-227160">
                        <a:lnSpc>
                          <a:spcPct val="100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0000"/>
                        </a:buClr>
                        <a:buSzPct val="65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 Gothic"/>
                          <a:ea typeface="ＭＳ Ｐゴシック"/>
                        </a:rPr>
                        <a:t>Publish policy docu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RI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About A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One of five Regional Internet Regis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Services 25 Economies in the Canada, the Caribbean and Uni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Nonprofit corporation based in Chantilly, 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Established December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100% community f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5183a"/>
                </a:solidFill>
                <a:latin typeface="Century Gothic"/>
                <a:ea typeface="Century Gothic"/>
              </a:rPr>
              <a:t>The ARIN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 flipV="1">
            <a:off x="3352680" y="3733920"/>
            <a:ext cx="106704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 flipV="1">
            <a:off x="3581280" y="5334120"/>
            <a:ext cx="1219320" cy="134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>
            <a:off x="73080" y="5181480"/>
            <a:ext cx="5946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Gothic"/>
              </a:rPr>
              <a:t>ARIN’s region includes Canada, many Caribbean and North Atlantic islands, and the United Stat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7" descr="ARIN_Region_low.jpg"/>
          <p:cNvPicPr/>
          <p:nvPr/>
        </p:nvPicPr>
        <p:blipFill>
          <a:blip r:embed="rId1"/>
          <a:stretch/>
        </p:blipFill>
        <p:spPr>
          <a:xfrm>
            <a:off x="25560" y="1219320"/>
            <a:ext cx="9092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9:21:28Z</dcterms:created>
  <dc:creator>Megan Kruse</dc:creator>
  <dc:description/>
  <dc:language>en-US</dc:language>
  <cp:lastModifiedBy>susanh</cp:lastModifiedBy>
  <dcterms:modified xsi:type="dcterms:W3CDTF">2010-04-05T12:37:06Z</dcterms:modified>
  <cp:revision>143</cp:revision>
  <dc:subject/>
  <dc:title>ABOUT IP ADDRESSES</dc:title>
</cp:coreProperties>
</file>